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28B-A539-410D-B557-86B99C1A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90A-0B2C-4E16-B264-CF830331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058-9195-4EEB-8AB4-2A869D5D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46A-FDF1-41A3-84DA-4DFAF0A9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BD08-997D-4CE3-B512-9C59CFDE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8200-5B5F-46B1-8D4C-ADABEA90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F0CC-97A3-4D29-997D-0CD20023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1F41-DABE-4D5C-9266-61C1A53E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67C0-4F1E-4CD1-BE3B-B16DEAE9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1600-4D87-4522-B24E-9EAAD35A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F0ED-0FEC-4A62-8F90-D931857D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75F-F284-4B92-9055-B4381AE6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0524-C0F9-4E4A-A5BF-8DC2EC6D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4E52-456C-48E3-BB6C-5F4F9EFB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B5C5-977D-431F-862E-66A2845D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1C02-3491-4C99-9B39-5BEB6C73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E42F-7A73-4BDE-B700-F638BBEF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83A-8D96-42EB-B642-559CEE48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268-CE2D-4D53-8D55-2A2231CE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02D-AD43-4143-8350-58D93BA9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89A-4042-4241-B48C-F2DA5161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274-4F53-49E9-A06A-3F1C1B12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F33-D910-4D42-93A1-E3B89006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B30-457C-4367-BFDB-4F2EBF01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E743-009F-4715-8247-B0A6C80403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BB50-22F9-47E0-937D-431873DA00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G-RSM CVS System at ECP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eki Kanam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ipps Institution of Ocean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Regional Domai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m/def/rsm6228r54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rd, jgrd, cigrd, cjg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rd has to be a product of integer powers of 2, 3, and 5. On IBM, integer power for 3 cannot be more than 2. jgrd has to be an odd number. cigrd and jgrd are coarse resolution regional file paramters for cr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PROJ, RTRUTH, RORIENT, RDELX, RDELY, RCENLAT, RCENLON, RLFTGRD, RBTMG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libs/etc/prmap to choose a dom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Utility Programs in libs/etc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returns date of sigma and surface fi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hou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_date_grib: change the date in grib files (r_pgb.ftxx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map: creates ctl file for GrADS from r_pgb.ftx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mean: creates average of r_pgb.ftx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dte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hou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d: returns julian day fr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map: used for choosing the domain. reads igrd and jgrd in rsm/define.h and domain paramters in rsm/rsim script and creates prmap.ctl which is opened in GrADs for displ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put Files (for RSM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iles from the data server at E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hourly R1 (NCEP/NCAR Reanalysis): r1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hourly R2 (NCEP/DOE Reanalysis): r2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sst.grib: sfcanl/ direc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ice.grib: sfcanl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ftp dataman@tsuzumi.ucsd.edu (password: data_e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 CVS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nongnu.org/cvs/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 and Fortran compilers required (we usually use portland group compilers on Linux machines but Intel should work to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environmental variable CVSROOT (e.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env CVSROOT :pserver:anoncvs@rokka.ucsd.ed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rokka1/kana/cvs-server-root/cpsc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$ cvs co Install [Note Capital “I”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get “inst” and “install” scripts. “inst” is a wrapper script that calls “instal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/inst [model version] [topography option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model version] rsm_frozen, rsm_latest, crsm_frozen, gsm_frozen, gsm_latest, scm_la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topography option] hi (use 30 seconds gtopo30 topography) or lo (use 4minutes topograph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er will ask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model [rsm/gsm/crsm/sc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hine architecture [single/thread/mpi/hybri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itution [ecpc/sdsc/ncar, etc] choose ecpc if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hine name [ibmsp/dec/cray/intel/linux, et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olution [e.g. T62L28 r54x55, T62L28 r8167c5487] you have to create resolution definition files in rsm/def if you want to define your own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script [rsm/rsim/csim, etc] rsm is for testing purpose (48hours integration). rsim is for downscaling with global files. csim is for crsm (c2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hoose to use “install” scrip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/install --model=[rsm/gsm/crsm/scm] --version=[…] --enable-[numerous options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osu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noa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zc : Zhao-Carr cloud water sche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3n: Song-You Hong cloud water sche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sas: SA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cmcnv: NCAR CCM3 Zhang McFarlane conv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baseout: post processed basefield output (r_bpgb.ftxx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CVS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co [modu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update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diff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log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use options such as –r (version), -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Model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s : library, utilities, independent of model resolution but machine 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m (or crsm): source codes and binaries, model resolution 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rsm/def/rsm6228r54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: run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/runscr: run scripts called by rsm/rsim/cs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/expscr: templates for rsm/rsim/cs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Building the model without install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libs, $ configure-li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r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edit rsm/def/physics.h, misc.h, debug.h, diag.h to change model options such as KF2 (Kain Fritsch convection) that is not supported by --enable-xxx with installer scri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$ configure-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runs, $ configure-scr [rsm/rsim/csim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Other things to not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stacksize to unlimited, otherwise rmtn.x f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20:55:00Z</dcterms:created>
  <dc:creator>KANAMARU Hideki</dc:creator>
  <dc:description/>
  <dc:language>en-US</dc:language>
  <cp:lastModifiedBy>hideki</cp:lastModifiedBy>
  <dcterms:modified xsi:type="dcterms:W3CDTF">2008-03-10T07:21:43Z</dcterms:modified>
  <cp:revision>84</cp:revision>
  <dc:subject/>
  <dc:title>G-RSM System at ECPC</dc:title>
</cp:coreProperties>
</file>